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EBEC-F940-40F9-B258-1423E5362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s in this slide will not work, were here as a reminder to prese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846D-E09C-43B3-8955-CFF72BAF5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57E5-BF18-4D80-87D0-19483E87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9DDE-EEFB-4652-B314-E6EE38183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F0C8-CD2F-43CD-B0CD-A9C9A0E3B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736C-CDE5-4C45-8F61-9FFBD5EAA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DB37-2873-41FB-9406-DA0703B8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EDAB-2146-4B78-8108-DE1E7326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EF07-5893-4C84-B991-0223F4E6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CDCD-F939-44F8-B675-B340EB7A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9954-8FBA-4DB9-A3E1-F281106C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B3110-CE6B-493C-B53F-6007BDD9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65E2-9827-468E-B372-8346B7E0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BCD8-9F11-403A-93E3-D5C901AB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BB9D-A03E-4925-845C-25215964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25CA-A380-4EF8-A61C-D377C9D2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34BD-D32D-45B7-AA02-13AB793F8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E822-F18D-4B61-9BC2-8C5372621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6A70-C9CA-4F21-8A1D-F381D218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4DD9-CB36-4C0B-9853-1C87AF71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8195-103A-4A8D-8B2F-A3391A64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21C8-07D1-4A71-863C-F7801010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BAF9-8247-43E6-98B6-B012FC1D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6A34-A6B9-4950-93F8-6B4BBFEF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2C28-ECC3-41EA-8FB2-13B54C0D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5C10-84E2-480D-914C-74916057A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0EA7-6FE4-4C69-BD36-54878C4A2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anger.ac.uk/genetics/CGP/cosmic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cgp-gbrowse.internal.sanger.ac.uk/mgb2/gbrowse/COLO-829/?start=140099580;stop=140099660;ref=7;width=800;version=100;flip=0;grid=on;id=0a3149f19297add05e7c13c8700dd1c0;label=http_deskpro14284.dynamic.sanger.ac.uk_9000_das_cosmic_mutations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cgp-gbrowse.internal.sanger.ac.uk/mgb2/gbrowse/PD3991/?start=43536896;stop=43536920;ref=5;width=1024;version=100;flip=0;grid=1;id=0a3149f19297add05e7c13c8700dd1c0;label=CMAN-Reads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se of GBrowse 1.999 in the Cancer Genome Projec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iran R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cer Genom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come Trust Sanger Instit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2@sanger.ac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olegenome dat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s are random but size sel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detect rearran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depth, high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s much lo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browse needs to work with 2x100GB files…. It does it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cknowledgme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ge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cerIT (CGP it grou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frequent respondents to my probl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coln S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tt C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to all on the Gbrowse mailing list for putting up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rief history of the CG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MIC - DAS vs. GFF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Gen pitf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ome ~ 5GB BAM x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legenome ~ 100GB BAM x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 brief history of CG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screening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rodu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llary sequ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mina Next 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2004 </a:t>
            </a: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COSM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came a public re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 brief history of CG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447920" y="1676520"/>
          <a:ext cx="6858000" cy="42606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troduplex screening with capillary confirm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IT sta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/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llary sequenc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IT staff CSA develop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/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xt Gen with capillary confirm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IT sta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ne day in a meeting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re we going to view next gen seq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-12 months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han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hink about it, can we have a solution within the mon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Browse2 w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SMIC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alogue Of Somatic Mutations In Can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 available to all as down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your own front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S currently being updated to latest spec to maintain Ensembl draw functional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SMIC - DAS vs. GFF3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</a:t>
            </a: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D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rks in GBrowse2 (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search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ly showing confirmed variations via GFF3 in GBrowse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vial to provide GFF3 ex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probably include config for GBrowse2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AS data in COS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ome Next Gen bloop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get human ref seq from Ensembl to use for ma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has PAR regions masked to ‘n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rtificially make reads map uniqu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your MT sequence caref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bank has recently been updated to show the correct s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ly was sequence for a small village in Africa (will not make it into Ensembl for a while due to build cyc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ome dat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ed to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depth, low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ck (few lanes need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Works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3:54:02Z</dcterms:created>
  <dc:creator>Sanger Institute</dc:creator>
  <dc:description/>
  <dc:language>en-US</dc:language>
  <cp:lastModifiedBy>Sanger Institute</cp:lastModifiedBy>
  <dcterms:modified xsi:type="dcterms:W3CDTF">2010-01-15T19:17:26Z</dcterms:modified>
  <cp:revision>8</cp:revision>
  <dc:subject/>
  <dc:title>Use of GBrowse 1.999 in the Cancer Genome Project</dc:title>
</cp:coreProperties>
</file>